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917-9252-427E-85C1-EC53500E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1F9-3FDE-48F8-8A1D-2B62163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C62-8104-451B-9F83-F4417189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D1A-30D4-41D2-BCC8-6CFED73F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5CD-7C62-4B22-BC38-25758F0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189-F352-4BD7-B1BA-6DA0E5B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7DD-5999-4FD3-90BB-69DD00B4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703-7952-4DD0-A48A-ACA6CD5F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A31-E47F-4491-951B-F92081C0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6F2-0FA5-46A5-8D16-46D40CE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C05-973D-4522-929D-919DE0D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5F5-036F-49FD-8CAC-850D841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CBCC-E3E5-421E-9206-B83C3A4FE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edigre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3120" y="351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ing a Trait in a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digree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5200" y="3902040"/>
            <a:ext cx="202572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usband &amp; wi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8880" y="3875040"/>
            <a:ext cx="1695240" cy="2122200"/>
            <a:chOff x="488880" y="3875040"/>
            <a:chExt cx="1695240" cy="2122200"/>
          </a:xfrm>
        </p:grpSpPr>
        <p:sp>
          <p:nvSpPr>
            <p:cNvPr id="46" name=""/>
            <p:cNvSpPr/>
            <p:nvPr/>
          </p:nvSpPr>
          <p:spPr>
            <a:xfrm>
              <a:off x="1077840" y="4146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8880" y="3875040"/>
              <a:ext cx="1695240" cy="2122200"/>
              <a:chOff x="488880" y="3875040"/>
              <a:chExt cx="1695240" cy="2122200"/>
            </a:xfrm>
          </p:grpSpPr>
          <p:sp>
            <p:nvSpPr>
              <p:cNvPr id="48" name=""/>
              <p:cNvSpPr/>
              <p:nvPr/>
            </p:nvSpPr>
            <p:spPr>
              <a:xfrm>
                <a:off x="660960" y="3951000"/>
                <a:ext cx="405360" cy="5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47200" y="3875040"/>
                <a:ext cx="577080" cy="61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74760" y="4174200"/>
                <a:ext cx="0" cy="89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0960" y="5072040"/>
                <a:ext cx="124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200" y="5072040"/>
                <a:ext cx="0" cy="39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89280" y="5087160"/>
                <a:ext cx="0" cy="3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07040" y="5378760"/>
                <a:ext cx="577080" cy="61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55800" y="5364000"/>
                <a:ext cx="577080" cy="61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8880" y="5425200"/>
                <a:ext cx="405360" cy="5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74760" y="50425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2260440" y="5316480"/>
            <a:ext cx="2241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bl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other &amp; sis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53040" y="3882960"/>
            <a:ext cx="3212640" cy="657000"/>
            <a:chOff x="5153040" y="3882960"/>
            <a:chExt cx="3212640" cy="657000"/>
          </a:xfrm>
        </p:grpSpPr>
        <p:sp>
          <p:nvSpPr>
            <p:cNvPr id="60" name=""/>
            <p:cNvSpPr/>
            <p:nvPr/>
          </p:nvSpPr>
          <p:spPr>
            <a:xfrm>
              <a:off x="5153040" y="3957480"/>
              <a:ext cx="56196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86320" y="3978000"/>
              <a:ext cx="47916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24360" y="417816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882960"/>
              <a:ext cx="65664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2120" y="3975120"/>
              <a:ext cx="13935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vorc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92280" y="1720800"/>
            <a:ext cx="2698560" cy="1290600"/>
            <a:chOff x="692280" y="1720800"/>
            <a:chExt cx="2698560" cy="1290600"/>
          </a:xfrm>
        </p:grpSpPr>
        <p:sp>
          <p:nvSpPr>
            <p:cNvPr id="66" name=""/>
            <p:cNvSpPr/>
            <p:nvPr/>
          </p:nvSpPr>
          <p:spPr>
            <a:xfrm>
              <a:off x="692280" y="1720800"/>
              <a:ext cx="5173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600" y="2484360"/>
              <a:ext cx="536400" cy="52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84560" y="1752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 (n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590560"/>
              <a:ext cx="20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male (n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78280" y="1746360"/>
            <a:ext cx="3248280" cy="1422360"/>
            <a:chOff x="4778280" y="1746360"/>
            <a:chExt cx="3248280" cy="1422360"/>
          </a:xfrm>
        </p:grpSpPr>
        <p:sp>
          <p:nvSpPr>
            <p:cNvPr id="71" name=""/>
            <p:cNvSpPr/>
            <p:nvPr/>
          </p:nvSpPr>
          <p:spPr>
            <a:xfrm>
              <a:off x="5603760" y="1758960"/>
              <a:ext cx="242280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 (has the tra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male (has the tra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81520" y="1746360"/>
              <a:ext cx="517680" cy="39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78280" y="2535120"/>
              <a:ext cx="536760" cy="52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219640" y="5245200"/>
            <a:ext cx="3457800" cy="850680"/>
            <a:chOff x="5219640" y="5245200"/>
            <a:chExt cx="3457800" cy="850680"/>
          </a:xfrm>
        </p:grpSpPr>
        <p:sp>
          <p:nvSpPr>
            <p:cNvPr id="75" name=""/>
            <p:cNvSpPr/>
            <p:nvPr/>
          </p:nvSpPr>
          <p:spPr>
            <a:xfrm>
              <a:off x="6229440" y="5502240"/>
              <a:ext cx="24480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ceased (de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54720" y="5441760"/>
              <a:ext cx="51768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9640" y="5245200"/>
              <a:ext cx="104148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4400" y="1893960"/>
            <a:ext cx="614160" cy="29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62240" y="1814400"/>
            <a:ext cx="3243240" cy="3628800"/>
            <a:chOff x="1362240" y="1814400"/>
            <a:chExt cx="3243240" cy="3628800"/>
          </a:xfrm>
        </p:grpSpPr>
        <p:sp>
          <p:nvSpPr>
            <p:cNvPr id="81" name=""/>
            <p:cNvSpPr/>
            <p:nvPr/>
          </p:nvSpPr>
          <p:spPr>
            <a:xfrm>
              <a:off x="2997360" y="210420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78600" y="28641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07040" y="1902960"/>
              <a:ext cx="44928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57640" y="1814400"/>
              <a:ext cx="639720" cy="60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9200" y="21042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3640" y="3352320"/>
              <a:ext cx="449280" cy="48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11520" y="4512960"/>
              <a:ext cx="450720" cy="48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51360" y="3292560"/>
              <a:ext cx="639720" cy="60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6800" y="3247920"/>
              <a:ext cx="641160" cy="60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680" y="2864160"/>
              <a:ext cx="17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8080" y="285048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2920" y="35809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30400" y="359460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6680" y="2433960"/>
              <a:ext cx="559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5080" y="2435400"/>
              <a:ext cx="559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62240" y="393948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3440" y="5098320"/>
              <a:ext cx="55728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240" y="393948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46760" y="3968640"/>
              <a:ext cx="558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7360" y="2070000"/>
            <a:ext cx="3085920" cy="2502000"/>
            <a:chOff x="5067360" y="2070000"/>
            <a:chExt cx="3085920" cy="2502000"/>
          </a:xfrm>
        </p:grpSpPr>
        <p:sp>
          <p:nvSpPr>
            <p:cNvPr id="101" name=""/>
            <p:cNvSpPr/>
            <p:nvPr/>
          </p:nvSpPr>
          <p:spPr>
            <a:xfrm>
              <a:off x="5067360" y="2070000"/>
              <a:ext cx="1066680" cy="2502000"/>
            </a:xfrm>
            <a:custGeom>
              <a:avLst/>
              <a:gdLst>
                <a:gd name="textAreaLeft" fmla="*/ 0 w 1066680"/>
                <a:gd name="textAreaRight" fmla="*/ 385200 w 106668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6640" y="2908440"/>
              <a:ext cx="200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eneration Numb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28800" y="5067360"/>
            <a:ext cx="4686480" cy="1216440"/>
            <a:chOff x="1828800" y="5067360"/>
            <a:chExt cx="4686480" cy="1216440"/>
          </a:xfrm>
        </p:grpSpPr>
        <p:sp>
          <p:nvSpPr>
            <p:cNvPr id="104" name=""/>
            <p:cNvSpPr/>
            <p:nvPr/>
          </p:nvSpPr>
          <p:spPr>
            <a:xfrm>
              <a:off x="1828800" y="5067360"/>
              <a:ext cx="4316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5308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2880" y="5092560"/>
              <a:ext cx="363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ndividual Number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egin each generation with 1; number from left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981080"/>
            <a:ext cx="8751960" cy="4572000"/>
            <a:chOff x="228600" y="1981080"/>
            <a:chExt cx="8751960" cy="4572000"/>
          </a:xfrm>
        </p:grpSpPr>
        <p:grpSp>
          <p:nvGrpSpPr>
            <p:cNvPr id="109" name=""/>
            <p:cNvGrpSpPr/>
            <p:nvPr/>
          </p:nvGrpSpPr>
          <p:grpSpPr>
            <a:xfrm>
              <a:off x="228600" y="1981080"/>
              <a:ext cx="8751960" cy="4572000"/>
              <a:chOff x="228600" y="1981080"/>
              <a:chExt cx="8751960" cy="4572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638680" y="3733920"/>
                <a:ext cx="663840" cy="568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91520" y="4495680"/>
                <a:ext cx="744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28600" y="1981080"/>
                <a:ext cx="8751960" cy="4572000"/>
                <a:chOff x="228600" y="1981080"/>
                <a:chExt cx="8751960" cy="457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990720" y="5334120"/>
                  <a:ext cx="663480" cy="568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8600" y="3809880"/>
                  <a:ext cx="663480" cy="568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304920" y="1981080"/>
                  <a:ext cx="8675640" cy="4572000"/>
                  <a:chOff x="304920" y="1981080"/>
                  <a:chExt cx="8675640" cy="45720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629400" y="6095880"/>
                    <a:ext cx="74448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04920" y="1981080"/>
                    <a:ext cx="8675640" cy="4496040"/>
                    <a:chOff x="304920" y="1981080"/>
                    <a:chExt cx="8675640" cy="44960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023920" y="340668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4648320" y="2133720"/>
                      <a:ext cx="663480" cy="56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86000" y="1981080"/>
                      <a:ext cx="712800" cy="69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971800" y="2362320"/>
                      <a:ext cx="1676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733920" y="2362320"/>
                      <a:ext cx="0" cy="1066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035080" y="3406680"/>
                      <a:ext cx="3952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441324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07008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5987880" y="3417840"/>
                      <a:ext cx="0" cy="30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077320" y="2133720"/>
                      <a:ext cx="903240" cy="4343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514600" y="274320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800600" y="2819520"/>
                      <a:ext cx="533520" cy="533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400800" y="5334120"/>
                      <a:ext cx="712800" cy="6904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716292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03848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76520" y="3733920"/>
                      <a:ext cx="712800" cy="690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2743200" y="3733920"/>
                      <a:ext cx="663480" cy="56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>
                      <a:off x="914040" y="4038480"/>
                      <a:ext cx="762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295280" y="403848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324480" y="4038480"/>
                      <a:ext cx="838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781680" y="403848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7913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191120" y="449568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8195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905120" y="449568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304920" y="441972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066680" y="5943600"/>
                      <a:ext cx="74448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"/>
            <p:cNvSpPr/>
            <p:nvPr/>
          </p:nvSpPr>
          <p:spPr>
            <a:xfrm>
              <a:off x="8077320" y="2133720"/>
              <a:ext cx="90324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II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60958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274320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819520"/>
            <a:ext cx="533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1981080"/>
            <a:ext cx="7647120" cy="4043520"/>
            <a:chOff x="228600" y="1981080"/>
            <a:chExt cx="7647120" cy="4043520"/>
          </a:xfrm>
        </p:grpSpPr>
        <p:sp>
          <p:nvSpPr>
            <p:cNvPr id="152" name=""/>
            <p:cNvSpPr/>
            <p:nvPr/>
          </p:nvSpPr>
          <p:spPr>
            <a:xfrm>
              <a:off x="5638680" y="3733920"/>
              <a:ext cx="66384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334120"/>
              <a:ext cx="66348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3809880"/>
              <a:ext cx="663480" cy="56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23920" y="340668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2133720"/>
              <a:ext cx="66348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1981080"/>
              <a:ext cx="712800" cy="69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23623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3920" y="2362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35080" y="3406680"/>
              <a:ext cx="395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324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008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7880" y="34178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5334120"/>
              <a:ext cx="712800" cy="69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292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3848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3733920"/>
              <a:ext cx="712800" cy="69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3200" y="3733920"/>
              <a:ext cx="663480" cy="56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14040" y="40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4038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4038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4038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913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449568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1972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943600"/>
            <a:ext cx="744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Domin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9480" y="1371600"/>
            <a:ext cx="7620120" cy="5336640"/>
            <a:chOff x="609480" y="1371600"/>
            <a:chExt cx="7620120" cy="5336640"/>
          </a:xfrm>
        </p:grpSpPr>
        <p:grpSp>
          <p:nvGrpSpPr>
            <p:cNvPr id="181" name=""/>
            <p:cNvGrpSpPr/>
            <p:nvPr/>
          </p:nvGrpSpPr>
          <p:grpSpPr>
            <a:xfrm>
              <a:off x="685800" y="1371600"/>
              <a:ext cx="7319880" cy="4924440"/>
              <a:chOff x="685800" y="1371600"/>
              <a:chExt cx="7319880" cy="4924440"/>
            </a:xfrm>
          </p:grpSpPr>
          <p:sp>
            <p:nvSpPr>
              <p:cNvPr id="182" name=""/>
              <p:cNvSpPr/>
              <p:nvPr/>
            </p:nvSpPr>
            <p:spPr>
              <a:xfrm>
                <a:off x="1671480" y="284796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85800" y="1371600"/>
                <a:ext cx="7319880" cy="4924440"/>
                <a:chOff x="685800" y="1371600"/>
                <a:chExt cx="7319880" cy="4924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418000" y="2911320"/>
                  <a:ext cx="573120" cy="479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5800" y="2847960"/>
                  <a:ext cx="573120" cy="47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050840" y="257184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14880" y="1500120"/>
                  <a:ext cx="57276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278000" y="1371600"/>
                  <a:ext cx="614160" cy="581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68400" y="1692360"/>
                  <a:ext cx="1446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25760" y="1692360"/>
                  <a:ext cx="0" cy="89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60560" y="2571840"/>
                  <a:ext cx="340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1292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95408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70480" y="25812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03640" y="2847960"/>
                  <a:ext cx="61452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89280" y="2847960"/>
                  <a:ext cx="614160" cy="581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95840" y="3105000"/>
                  <a:ext cx="72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3710160" y="3105000"/>
                  <a:ext cx="2717640" cy="1928880"/>
                  <a:chOff x="3710160" y="3105000"/>
                  <a:chExt cx="2717640" cy="19288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827600" y="4452840"/>
                    <a:ext cx="614520" cy="5810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89680" y="3105000"/>
                    <a:ext cx="0" cy="109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038480" y="41958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07536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08968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38480" y="419580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710160" y="4452840"/>
                    <a:ext cx="571320" cy="478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813280" y="4452840"/>
                    <a:ext cx="614520" cy="58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7010280" y="4495680"/>
                  <a:ext cx="57312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400800" y="47242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477120" y="5715000"/>
                  <a:ext cx="61416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781680" y="472428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15000" y="5486400"/>
                  <a:ext cx="203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7240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78168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715000" y="54864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410080" y="5791320"/>
                  <a:ext cx="571680" cy="47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1520" y="5715000"/>
                  <a:ext cx="61416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137160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672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7520" y="3438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020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50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00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692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624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040" y="6221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3800" y="624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431200" y="1292400"/>
            <a:ext cx="712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utosomal Domin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5800" y="1371600"/>
            <a:ext cx="7319880" cy="4924440"/>
            <a:chOff x="685800" y="1371600"/>
            <a:chExt cx="7319880" cy="4924440"/>
          </a:xfrm>
        </p:grpSpPr>
        <p:sp>
          <p:nvSpPr>
            <p:cNvPr id="234" name=""/>
            <p:cNvSpPr/>
            <p:nvPr/>
          </p:nvSpPr>
          <p:spPr>
            <a:xfrm>
              <a:off x="1671480" y="284796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85800" y="1371600"/>
              <a:ext cx="7319880" cy="4924440"/>
              <a:chOff x="685800" y="1371600"/>
              <a:chExt cx="7319880" cy="4924440"/>
            </a:xfrm>
          </p:grpSpPr>
          <p:sp>
            <p:nvSpPr>
              <p:cNvPr id="236" name=""/>
              <p:cNvSpPr/>
              <p:nvPr/>
            </p:nvSpPr>
            <p:spPr>
              <a:xfrm>
                <a:off x="5418000" y="2911320"/>
                <a:ext cx="573120" cy="47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5800" y="2847960"/>
                <a:ext cx="57312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50840" y="25718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14880" y="1500120"/>
                <a:ext cx="57276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78000" y="1371600"/>
                <a:ext cx="61416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68400" y="1692360"/>
                <a:ext cx="144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25760" y="1692360"/>
                <a:ext cx="0" cy="89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60560" y="2571840"/>
                <a:ext cx="34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1292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5408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70480" y="2581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03640" y="2847960"/>
                <a:ext cx="61452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89280" y="2847960"/>
                <a:ext cx="61416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95840" y="3105000"/>
                <a:ext cx="72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3710160" y="3105000"/>
                <a:ext cx="2717640" cy="1928880"/>
                <a:chOff x="3710160" y="3105000"/>
                <a:chExt cx="2717640" cy="1928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827600" y="4452840"/>
                  <a:ext cx="614520" cy="581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89680" y="3105000"/>
                  <a:ext cx="0" cy="109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38480" y="4195800"/>
                  <a:ext cx="203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7536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08968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038480" y="419580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710160" y="4452840"/>
                  <a:ext cx="571320" cy="478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813280" y="4452840"/>
                  <a:ext cx="614520" cy="58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7010280" y="4495680"/>
                <a:ext cx="57312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00800" y="472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77120" y="5715000"/>
                <a:ext cx="61416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168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15000" y="5486400"/>
                <a:ext cx="20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7240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168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15000" y="54864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10080" y="5791320"/>
                <a:ext cx="57168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91520" y="5715000"/>
                <a:ext cx="61416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13716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27520" y="3438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10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0040" y="6221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ex-Linked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56600" y="54450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4200" y="1398600"/>
            <a:ext cx="8587080" cy="5280840"/>
            <a:chOff x="214200" y="1398600"/>
            <a:chExt cx="8587080" cy="5280840"/>
          </a:xfrm>
        </p:grpSpPr>
        <p:grpSp>
          <p:nvGrpSpPr>
            <p:cNvPr id="286" name=""/>
            <p:cNvGrpSpPr/>
            <p:nvPr/>
          </p:nvGrpSpPr>
          <p:grpSpPr>
            <a:xfrm>
              <a:off x="214200" y="1398600"/>
              <a:ext cx="8587080" cy="4821120"/>
              <a:chOff x="214200" y="1398600"/>
              <a:chExt cx="8587080" cy="4821120"/>
            </a:xfrm>
          </p:grpSpPr>
          <p:sp>
            <p:nvSpPr>
              <p:cNvPr id="287" name=""/>
              <p:cNvSpPr/>
              <p:nvPr/>
            </p:nvSpPr>
            <p:spPr>
              <a:xfrm>
                <a:off x="1123920" y="44467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40040" y="25988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60680" y="287496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13400" y="2857680"/>
                <a:ext cx="573120" cy="47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3040" y="290052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720" y="1527120"/>
                <a:ext cx="573120" cy="47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66840" y="1398600"/>
                <a:ext cx="61452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57600" y="1719360"/>
                <a:ext cx="14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4600" y="1719360"/>
                <a:ext cx="0" cy="89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49400" y="2598840"/>
                <a:ext cx="389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02120" y="2608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43280" y="26082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30920" y="259380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20720" y="2847960"/>
                <a:ext cx="614520" cy="581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47920" y="314640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880" y="4224240"/>
                <a:ext cx="203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8760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4612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6280" y="42372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4200" y="4519440"/>
                <a:ext cx="57168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97080" y="449424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30680" y="2868480"/>
                <a:ext cx="57312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36800" y="3133800"/>
                <a:ext cx="59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19840" y="28195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80040" y="306396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91520" y="46483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10080" y="4419720"/>
                <a:ext cx="614520" cy="58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96080" y="4648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77120" y="5410080"/>
                <a:ext cx="203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7120" y="54100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81680" y="4419720"/>
                <a:ext cx="571680" cy="47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72200" y="563868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77120" y="30970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715000" y="4191120"/>
                <a:ext cx="13539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86600" y="4191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15000" y="4191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01000" y="4419720"/>
                <a:ext cx="614520" cy="581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29600" y="5638680"/>
                <a:ext cx="571680" cy="47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34520" y="54100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813120" y="342900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1720" y="3425760"/>
              <a:ext cx="4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54800" y="50338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10240" y="342576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3320" y="49338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600" y="50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82160" y="6153120"/>
              <a:ext cx="4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9200" y="340200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8080" y="2060640"/>
              <a:ext cx="4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32520" y="347976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00400" y="2070000"/>
              <a:ext cx="3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8200" y="346860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21600" y="502920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15120" y="621972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20920" y="510552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11400" y="508320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ex-Linked Recess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56600" y="54450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14200" y="1398600"/>
            <a:ext cx="8587080" cy="4821120"/>
            <a:chOff x="214200" y="1398600"/>
            <a:chExt cx="8587080" cy="4821120"/>
          </a:xfrm>
        </p:grpSpPr>
        <p:sp>
          <p:nvSpPr>
            <p:cNvPr id="345" name=""/>
            <p:cNvSpPr/>
            <p:nvPr/>
          </p:nvSpPr>
          <p:spPr>
            <a:xfrm>
              <a:off x="1123920" y="44467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40040" y="259884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0680" y="287496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3400" y="2857680"/>
              <a:ext cx="573120" cy="47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3040" y="290052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03720" y="1527120"/>
              <a:ext cx="573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6840" y="1398600"/>
              <a:ext cx="614520" cy="58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57600" y="1719360"/>
              <a:ext cx="14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14600" y="1719360"/>
              <a:ext cx="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49400" y="2598840"/>
              <a:ext cx="38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2120" y="26082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43280" y="26082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0920" y="25938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0720" y="2847960"/>
              <a:ext cx="614520" cy="58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7920" y="314640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1880" y="422424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8760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612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6280" y="423720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4200" y="4519440"/>
              <a:ext cx="57168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7080" y="449424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0680" y="2868480"/>
              <a:ext cx="57312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36800" y="3133800"/>
              <a:ext cx="5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19840" y="28195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80040" y="3063960"/>
              <a:ext cx="7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9152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10080" y="4419720"/>
              <a:ext cx="614520" cy="581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96080" y="4648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77120" y="54100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7120" y="54100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81680" y="4419720"/>
              <a:ext cx="571680" cy="47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2200" y="563868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7120" y="309708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715000" y="4191120"/>
              <a:ext cx="13539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1911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41911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01000" y="4419720"/>
              <a:ext cx="614520" cy="58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29600" y="5638680"/>
              <a:ext cx="571680" cy="47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34520" y="54100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625920" y="342900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120" y="342576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32400" y="50338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50040" y="3425760"/>
            <a:ext cx="10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4948200"/>
            <a:ext cx="10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0878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67600" y="615312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340200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46480" y="207504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19920" y="34797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30400" y="20304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19200" y="34686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53400" y="50292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13520" y="6234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5105520"/>
            <a:ext cx="10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49400" y="50832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0:05:00Z</dcterms:created>
  <dc:creator>Robert Burke</dc:creator>
  <dc:description/>
  <dc:language>en-US</dc:language>
  <cp:lastModifiedBy>Plano ISD</cp:lastModifiedBy>
  <dcterms:modified xsi:type="dcterms:W3CDTF">2004-11-29T22:41:32Z</dcterms:modified>
  <cp:revision>13</cp:revision>
  <dc:subject/>
  <dc:title>Pedigrees</dc:title>
</cp:coreProperties>
</file>